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A6F-D08F-4FA5-9D45-C14C2278F8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652B-8631-4A1D-83E8-BCDA9E5A01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DD3-D5D1-4374-A3A3-8FA8C8FB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D0B-9818-4832-839B-D8040252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75B-6F4A-4EB8-893A-11F015B5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810-7815-43FC-AB18-2D1C54DD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41F-FB4E-43B2-AF65-F01304A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61F-C4D3-4356-AF31-0D2184D0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0CF-5DE0-439B-B898-2F1975D7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D5D-F9D0-4DE0-A765-A5C688A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20B-E8C1-4B86-88B3-3A58BBDB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A0F-4DDF-4F5C-A38E-4F625C7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A7D-6B60-4303-81E8-ADB7701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270-85B5-4B0A-999B-C336A89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8EF0-ED7E-44DF-931B-AC6385359CB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2"/>
          <p:cNvSpPr/>
          <p:nvPr/>
        </p:nvSpPr>
        <p:spPr>
          <a:xfrm>
            <a:off x="692280" y="576252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: Un percorso d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media-education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per una cittadinanza in rete sostenibile e consap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2627280" y="3357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E IMMAGINE RAPPRES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611280" y="62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6372360" y="620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Festival nazionale S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VENEZIA ME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Novembre 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6"/>
          <p:cNvSpPr/>
          <p:nvPr/>
        </p:nvSpPr>
        <p:spPr>
          <a:xfrm>
            <a:off x="2771640" y="62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C733-75BD-4C3B-A248-DC8AC6EE4EE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5"/>
          <p:cNvSpPr/>
          <p:nvPr/>
        </p:nvSpPr>
        <p:spPr>
          <a:xfrm>
            <a:off x="755640" y="376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1. Motivazione ini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E26-C396-42AB-AA6D-2DBB0B9A75A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5"/>
          <p:cNvSpPr/>
          <p:nvPr/>
        </p:nvSpPr>
        <p:spPr>
          <a:xfrm>
            <a:off x="179280" y="16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2. Identificazione del problema e obiettivi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A quali bisogni del territorio rispon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8CC3-E3C6-4887-840F-85A0630BE3A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00000" y="20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3. Strategia adott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ome raggiungere l’obiettivo/gli obiettiv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0F36-CEB7-4D19-9818-E40CD830BA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487440" y="1033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4. Fasi di re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imeline: cosa, chi, quando?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7200" y="979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08DA-797C-4106-AFAF-413AAD44FA0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684360" y="339840"/>
            <a:ext cx="79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5. Traguardi di compet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competenze disciplinari svilup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4A5D-BD93-4BE7-A76B-A682090181A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2"/>
          <p:cNvSpPr/>
          <p:nvPr/>
        </p:nvSpPr>
        <p:spPr>
          <a:xfrm>
            <a:off x="93492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6. Risultati raggiu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Benefici sociali/risposte ai bisogni di part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840-1493-42ED-A1D4-BAB470C7EF7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108000" y="20628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7. Valu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he cosa valutiamo e con quali strument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4F1A-45D7-468E-959A-41BE8258060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250920" y="351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Eventuale video di presentazione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durata massima: 2 minu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6"/>
          <p:cNvSpPr/>
          <p:nvPr/>
        </p:nvSpPr>
        <p:spPr>
          <a:xfrm>
            <a:off x="971640" y="15526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K O AL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04:06Z</dcterms:created>
  <dc:creator>Tiziana_</dc:creator>
  <dc:description/>
  <dc:language>en-US</dc:language>
  <cp:lastModifiedBy>cesarea citta</cp:lastModifiedBy>
  <dcterms:modified xsi:type="dcterms:W3CDTF">2021-03-26T16:16:18Z</dcterms:modified>
  <cp:revision>3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0</vt:lpwstr>
  </property>
</Properties>
</file>