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B09A-D779-44D0-BA6E-6D8DB78E5B5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BC0C-5619-4F95-AFA6-1D8C744AB3C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ACD5-EB81-4CF7-B1CC-A1ACCA89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A3C-D538-42D4-92B7-FD6E9D11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834-6C6B-41C7-952B-B4A4A475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E3D-EFF9-4B19-A0B5-E6EB12E1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7D0-23F2-43A5-876A-32AFA8B4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294C-874E-44BC-814E-5342D332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E426-5A5B-4CA4-8FB6-E89813E3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107-E92A-4F24-A27B-DE4B07F1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4556-3A94-441C-9698-DE3CB265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DA5-9989-4241-B9E3-957DA5E4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C8AD-9EBB-477F-96AF-5585238F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C7D-9DF4-49CC-86C6-5E76530D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93FE-F7B4-496C-887B-7247FD87B43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tangolo 2"/>
          <p:cNvSpPr/>
          <p:nvPr/>
        </p:nvSpPr>
        <p:spPr>
          <a:xfrm>
            <a:off x="692280" y="5762520"/>
            <a:ext cx="77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ES: Un percorso di </a:t>
            </a:r>
            <a:r>
              <a:rPr b="1" i="1" lang="it-IT" sz="1800" spc="-1" strike="noStrike">
                <a:solidFill>
                  <a:srgbClr val="000066"/>
                </a:solidFill>
                <a:latin typeface="Arial"/>
              </a:rPr>
              <a:t>media-education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 per una cittadinanza in rete sostenibile e consapev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sellaDiTesto 2"/>
          <p:cNvSpPr/>
          <p:nvPr/>
        </p:nvSpPr>
        <p:spPr>
          <a:xfrm>
            <a:off x="2627280" y="335772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VENTUALE IMMAGINE RAPPRESENT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sellaDiTesto 4"/>
          <p:cNvSpPr/>
          <p:nvPr/>
        </p:nvSpPr>
        <p:spPr>
          <a:xfrm>
            <a:off x="611280" y="620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GO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5"/>
          <p:cNvSpPr/>
          <p:nvPr/>
        </p:nvSpPr>
        <p:spPr>
          <a:xfrm>
            <a:off x="6372360" y="620640"/>
            <a:ext cx="25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Festival nazionale S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VENEZIA ME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Novembre 20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sellaDiTesto 6"/>
          <p:cNvSpPr/>
          <p:nvPr/>
        </p:nvSpPr>
        <p:spPr>
          <a:xfrm>
            <a:off x="2771640" y="62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ME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3396-8A63-4F34-BB9F-A740BA31A9E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sellaDiTesto 5"/>
          <p:cNvSpPr/>
          <p:nvPr/>
        </p:nvSpPr>
        <p:spPr>
          <a:xfrm>
            <a:off x="755640" y="3762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1. Motivazione iniz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9106-D4FE-4F3F-B36D-971C50C67DC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sellaDiTesto 5"/>
          <p:cNvSpPr/>
          <p:nvPr/>
        </p:nvSpPr>
        <p:spPr>
          <a:xfrm>
            <a:off x="179280" y="16200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2. Identificazione del problema e obiettivi del prog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A quali bisogni del territorio rispond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992D-7C90-4FE5-B5BD-39C73D23BBC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sellaDiTesto 5"/>
          <p:cNvSpPr/>
          <p:nvPr/>
        </p:nvSpPr>
        <p:spPr>
          <a:xfrm>
            <a:off x="900000" y="206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3. Strategia adott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Come raggiungere l’obiettivo/gli obiettivi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D210-6126-4309-9285-AC1A33C44BE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5"/>
          <p:cNvSpPr/>
          <p:nvPr/>
        </p:nvSpPr>
        <p:spPr>
          <a:xfrm>
            <a:off x="487440" y="10332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4. Fasi di realizz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Timeline: cosa, chi, quando?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0"/>
          <p:cNvSpPr/>
          <p:nvPr/>
        </p:nvSpPr>
        <p:spPr>
          <a:xfrm>
            <a:off x="457200" y="979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76D7-805C-44CA-9C4E-26A490379F3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sellaDiTesto 5"/>
          <p:cNvSpPr/>
          <p:nvPr/>
        </p:nvSpPr>
        <p:spPr>
          <a:xfrm>
            <a:off x="684360" y="339840"/>
            <a:ext cx="793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5. Traguardi di compete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ali competenze disciplinari svilupp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0AB2-0EC3-4067-9E3B-17FAA65E1C4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sellaDiTesto 2"/>
          <p:cNvSpPr/>
          <p:nvPr/>
        </p:nvSpPr>
        <p:spPr>
          <a:xfrm>
            <a:off x="934920" y="260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6. Risultati raggiu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Benefici sociali/risposte ai bisogni di parten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34D5-9797-411F-8075-81407C0E441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sellaDiTesto 5"/>
          <p:cNvSpPr/>
          <p:nvPr/>
        </p:nvSpPr>
        <p:spPr>
          <a:xfrm>
            <a:off x="108000" y="206280"/>
            <a:ext cx="87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7. Valut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Che cosa valutiamo e con quali strumenti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9C7B-0042-47D1-9F4E-2DA6183E6AC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sellaDiTesto 5"/>
          <p:cNvSpPr/>
          <p:nvPr/>
        </p:nvSpPr>
        <p:spPr>
          <a:xfrm>
            <a:off x="250920" y="35100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Eventuale video di presentazione del prog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durata massima: 2 minut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tangolo 6"/>
          <p:cNvSpPr/>
          <p:nvPr/>
        </p:nvSpPr>
        <p:spPr>
          <a:xfrm>
            <a:off x="971640" y="15526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NK O ALTR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4:04:06Z</dcterms:created>
  <dc:creator>Tiziana_</dc:creator>
  <dc:description/>
  <dc:language>en-US</dc:language>
  <cp:lastModifiedBy>cesarea citta</cp:lastModifiedBy>
  <dcterms:modified xsi:type="dcterms:W3CDTF">2021-03-26T16:16:18Z</dcterms:modified>
  <cp:revision>31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0</vt:lpwstr>
  </property>
</Properties>
</file>